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E941-F9AF-413F-981F-7A51E4FE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1381-8910-4A82-8B7C-AB6A65982E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CF1-33E1-4ECB-8E45-8251C735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035-3030-414F-8265-BDA75CC4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F7C-B8C6-49A1-B698-CE93618D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E13-42CF-425E-BFE7-29D86DF7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5F92-FD75-4DD9-B550-F18247C9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996-B52F-4B15-BF8F-8B4F495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2AA6-323D-4CAE-89C9-4BBD4ED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A17-2561-42BE-97D9-2D427F7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C602-AB2B-4391-81E3-DEEF55A6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0359-86CE-4F3C-9D99-E618CB0A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E52-FA5C-44EC-A7E9-4C2DDDE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646-D0C9-43B5-817D-F6C1D00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C6F2-FC00-4B68-A5E5-23D7C4C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821D-5DC3-456E-9F64-BC6BB3A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911-5293-4BFD-AE33-5A99CC7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893-36E0-4564-9DE2-4457752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47C6-56EC-4D17-BFC1-D31F8725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30B-7543-4003-AAC1-92705B2B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965-0193-4702-9C9B-3635CCD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B01-C50B-40AF-94D5-7AB0D85C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B39-ED20-45A7-96CD-0044FE9B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5A9-20FE-4C33-8DC4-5304FE7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4B9-E666-4BE2-80CD-D0665F6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5C-EADF-4FFA-B555-A3BDA2B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087-A023-4391-9161-16B3DA63D8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A49-A125-43D6-88F1-2B3F6928AB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eld Trip!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ck up all of your materials and let’s head to the Curriculum Materials Center (ED 194) in the older education building.  It is located around the left-hand side of Einstein’s Bros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057400" y="3098880"/>
            <a:ext cx="540396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7-02-08T18:11:56Z</cp:lastPrinted>
  <dcterms:modified xsi:type="dcterms:W3CDTF">2017-02-09T09:17:58Z</dcterms:modified>
  <cp:revision>409</cp:revision>
  <dc:subject/>
  <dc:title>Slide 1</dc:title>
</cp:coreProperties>
</file>